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71C-04D5-4826-890B-71A43CB1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062-4ED9-4B6D-BA7A-ECD387BC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D17-B788-4467-ADD7-A7553A79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106-E0A8-47A6-A564-6F4D4CD2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AD8-B413-42C4-BA27-E8FA79A1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F44-BBB5-490D-88BC-60A18DD3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AD4-8F64-47C7-8C2C-B5AC48A1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E80-5312-4F97-8CE8-E24D5721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140-7814-487F-9D2C-7A542E13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FD3-6BCF-4E51-B258-FC3307A8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E96-1344-4F38-83AF-5E7486B7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3C4-29DB-4084-B40F-CFCC3FA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9270-FE61-4242-9666-9E52E2723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990720"/>
            <a:ext cx="3724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Gre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arthquake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ire of 19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476520" cy="322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87692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7480" y="5602320"/>
            <a:ext cx="814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ew of the city as it burns up.  Can you imagine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h smoke went up into the air that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8880" y="5573880"/>
            <a:ext cx="89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is a view of a tent city set up for the refugees—people without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 to go to.  The amount of people that needed help was tremend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tent camps helped feed them and give them a place to sl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7880" y="1027080"/>
            <a:ext cx="112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362640" cy="482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3600" y="5181480"/>
            <a:ext cx="890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ity began working immediately to repair all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ormous damage created by the earthquake and fi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be sure that they made things safer for the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8560" y="4941720"/>
            <a:ext cx="780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side look at the San Andreas Fault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runs through along the Pacific coast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o the large cities of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5880" y="5373720"/>
            <a:ext cx="839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picture of downtown San Francisco befor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thquake shook and cracked it apart.   Also befor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 destroyed so much of the famous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181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8800" y="5246640"/>
            <a:ext cx="815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cture shows the fault line running along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North America continent which contain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, Canada, and 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784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5880" y="4038480"/>
            <a:ext cx="454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ook at how the city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 Francisco, Califor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ars today.  It i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emely beautiful cit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7680" y="685800"/>
            <a:ext cx="383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ck out all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azingly 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kyscraper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10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2480" y="4621320"/>
            <a:ext cx="848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normous city by the bay has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y restored to its natural beauty.  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bridges and buildings have been bu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hopefully withstand future earthqu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492360" cy="3632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301920" cy="4457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960" y="4303800"/>
            <a:ext cx="456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ouses were shifted and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l down to total ruins.  Many fami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 the belongings.  Unfortunately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homes belonged to midd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 income fami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31720" y="304920"/>
            <a:ext cx="50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arthquake began at 5:13 a.m. 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ere still at home in their b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ware of what was going on aroun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reat quake was felt from the stat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egon all the way to Los Angeles,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6200" y="605952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ee the desperation this man must be fee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400800" cy="461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0360" y="5068800"/>
            <a:ext cx="87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icture shows the city after the disaster.  Even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icture is black and white, you can still tell how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city lies in ruins.  It was a huge dis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302280" cy="4457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489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8080" y="4916520"/>
            <a:ext cx="43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lephone and tele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were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 when the quake hit.  T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getting help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0360" y="571500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icture of the completely torn apart city hall.  It must have b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ast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ing at everything around you suddenly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39116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9840" y="5068800"/>
            <a:ext cx="775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cracks appeared during the earthquake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s were nearly swallowed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0:29:24Z</dcterms:created>
  <dc:creator>Rutherford County Schools</dc:creator>
  <dc:description/>
  <dc:language>en-US</dc:language>
  <cp:lastModifiedBy>Rutherford County Schools</cp:lastModifiedBy>
  <dcterms:modified xsi:type="dcterms:W3CDTF">2007-04-21T15:52:44Z</dcterms:modified>
  <cp:revision>3</cp:revision>
  <dc:subject/>
  <dc:title>Slide 1</dc:title>
</cp:coreProperties>
</file>